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launch1.wav" ContentType="audio/x-wav"/>
  <Override PartName="/ppt/media/launch.wav" ContentType="audio/x-wav"/>
  <Override PartName="/ppt/media/disintegrated.wav" ContentType="audio/x-wav"/>
  <Override PartName="/ppt/media/notknow.wav" ContentType="audio/x-wav"/>
  <Override PartName="/ppt/media/da-wa.wav" ContentType="audio/x-wav"/>
  <Override PartName="/ppt/media/impresiv.wav" ContentType="audio/x-wav"/>
  <Override PartName="/ppt/media/interesting.wav" ContentType="audio/x-wav"/>
  <Override PartName="/ppt/media/ques-answ.wav" ContentType="audio/x-wav"/>
  <Override PartName="/ppt/media/goodbye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C98-E992-43B3-98E0-D9048AB0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57E-DCB8-422A-A948-609C23F3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FF1-02EF-4073-9C0B-F16C5F4A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B7D-B5B5-4BC1-A438-369CC76B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5FB-A41F-4C57-ABD1-FECFB586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FF1-8298-45D8-A2B7-D38464B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15E-E7FC-4C0D-B010-5EA9137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BF8-8655-43D4-BFB8-8D7808A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F2F-20D1-4930-B466-1E98E39F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212-3EF6-4E07-AE8E-C56702B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3B5-7326-440C-9E57-E250B79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2E5-BF89-45EB-BCEF-6D6A862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CBF-C8BA-4389-92DA-C7153E884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interestin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impresiv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ques-answ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notknow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goodbye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audio" Target="../media/da-w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unc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audio" Target="../media/disintegrated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wipeoutsong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3192480" y="1674720"/>
            <a:ext cx="54482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Snap ITC"/>
              </a:rPr>
              <a:t>Solar Science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4" name=""/>
          <p:cNvSpPr/>
          <p:nvPr/>
        </p:nvSpPr>
        <p:spPr>
          <a:xfrm>
            <a:off x="4135680" y="403236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d by Connie Camp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3" name="launch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116160" y="16812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der from largest to smallest 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6720" y="2166840"/>
            <a:ext cx="5449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iverse, galaxy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lar syst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alaxy, universe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lar syst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lar system, galaxy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3" name="interestin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116160" y="168120"/>
            <a:ext cx="570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ow many degrees does the earth turn in 24 hour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99760" y="3460680"/>
            <a:ext cx="311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80 degr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90 degr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60 degr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3" name="impresiv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16160" y="168120"/>
            <a:ext cx="570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ich two planets have orbits between Earth and the su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80880" y="3562200"/>
            <a:ext cx="502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rcury and Ven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piter and Ven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rs and Ven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16160" y="168120"/>
            <a:ext cx="570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ich planet in our solar system is farthest from the Earth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1920" y="3460680"/>
            <a:ext cx="184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Ma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Jupi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Plu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116160" y="168120"/>
            <a:ext cx="570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meteorologists concerned with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82680" y="3562200"/>
            <a:ext cx="3009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teo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weath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  <p:sndAc>
      <p:stSnd>
        <p:snd r:embed="rId3" name="notknow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3192480" y="1674720"/>
            <a:ext cx="54482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Snap ITC"/>
              </a:rPr>
              <a:t>How did you do?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125" name=""/>
          <p:cNvSpPr/>
          <p:nvPr/>
        </p:nvSpPr>
        <p:spPr>
          <a:xfrm>
            <a:off x="3139560" y="3711600"/>
            <a:ext cx="50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learn more, visi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s of the Solar Syst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3" name="goodbye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116160" y="16812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brightest star in the night sk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9400" y="3460680"/>
            <a:ext cx="285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Siri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Polari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etelgeu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da-w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last off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re correc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launc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116160" y="168120"/>
            <a:ext cx="570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U.S. Senator was the first American to orbit the planet Earth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1200" y="3460680"/>
            <a:ext cx="4126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Howard Bak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John Glen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Neal Armstro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6" name="disintegrat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182760" y="1760400"/>
            <a:ext cx="57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ash and Burn!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ssed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5156280" y="4224240"/>
            <a:ext cx="2031840" cy="1549440"/>
          </a:xfrm>
          <a:custGeom>
            <a:avLst/>
            <a:gdLst>
              <a:gd name="textAreaLeft" fmla="*/ 100440 w 2031840"/>
              <a:gd name="textAreaRight" fmla="*/ 1931400 w 2031840"/>
              <a:gd name="textAreaTop" fmla="*/ 100440 h 1549440"/>
              <a:gd name="textAreaBottom" fmla="*/ 1449000 h 1549440"/>
            </a:gdLst>
            <a:ahLst/>
            <a:rect l="textAreaLeft" t="textAreaTop" r="textAreaRight" b="textAreaBottom"/>
            <a:pathLst>
              <a:path w="28323" h="21600">
                <a:moveTo>
                  <a:pt x="0" y="0"/>
                </a:moveTo>
                <a:lnTo>
                  <a:pt x="28323" y="0"/>
                </a:lnTo>
                <a:lnTo>
                  <a:pt x="28323" y="21600"/>
                </a:lnTo>
                <a:lnTo>
                  <a:pt x="0" y="21600"/>
                </a:lnTo>
                <a:close/>
              </a:path>
              <a:path fill="lightenLess" w="28323" h="21600">
                <a:moveTo>
                  <a:pt x="0" y="0"/>
                </a:moveTo>
                <a:lnTo>
                  <a:pt x="28323" y="0"/>
                </a:lnTo>
                <a:lnTo>
                  <a:pt x="26923" y="1400"/>
                </a:lnTo>
                <a:lnTo>
                  <a:pt x="1400" y="1400"/>
                </a:lnTo>
                <a:close/>
              </a:path>
              <a:path fill="darken" w="28323" h="21600">
                <a:moveTo>
                  <a:pt x="28323" y="0"/>
                </a:moveTo>
                <a:lnTo>
                  <a:pt x="28323" y="21600"/>
                </a:lnTo>
                <a:lnTo>
                  <a:pt x="26923" y="20200"/>
                </a:lnTo>
                <a:lnTo>
                  <a:pt x="26923" y="1400"/>
                </a:lnTo>
                <a:close/>
              </a:path>
              <a:path fill="darkenLess" w="28323" h="21600">
                <a:moveTo>
                  <a:pt x="2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3" y="20200"/>
                </a:lnTo>
                <a:close/>
              </a:path>
              <a:path fill="lighten" w="2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23" h="21600">
                <a:moveTo>
                  <a:pt x="7155" y="10800"/>
                </a:moveTo>
                <a:lnTo>
                  <a:pt x="21168" y="3794"/>
                </a:lnTo>
                <a:lnTo>
                  <a:pt x="21168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7:10:42Z</dcterms:created>
  <dc:creator>Garrett Wasny, CMC</dc:creator>
  <dc:description/>
  <dc:language>en-US</dc:language>
  <cp:lastModifiedBy>Jefferson County Schools</cp:lastModifiedBy>
  <dcterms:modified xsi:type="dcterms:W3CDTF">1999-12-15T15:42:17Z</dcterms:modified>
  <cp:revision>8</cp:revision>
  <dc:subject/>
  <dc:title>Reconnaissance</dc:title>
</cp:coreProperties>
</file>